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81CD-1F20-414F-8407-458C4399181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04BF-3B7A-41F6-9E1A-F579C0E48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1BBE-E7CC-44D6-AED1-0E51190D5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F2CA-53CE-4D0E-B0F0-80168CD05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F86F-DCDF-4373-BE8A-BFB496D41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19BF-2810-4E40-9CFB-2BD77AD30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B663-7BEF-475D-A66B-E61716F81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595E-FD56-49D5-BE8D-8BDD242EB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56BC-9004-4A10-B95E-F751D8413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0737-D21C-4EDF-BF13-20BDE12BB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B028-45E9-4E5C-B9D1-9E62164A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70C-14B5-4E07-9261-76591147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D3D2-6E6C-4633-820C-71357261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13F0-7C07-4C66-9E40-C93CA15B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5311-EBCD-4548-AE5C-C0F4C44C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D62A-562F-402D-89FD-995D127A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B1E7-9FF6-4D2D-A6C6-C8D3C000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63BC-C4A0-4495-A0A7-3DF70632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9A9A-BC40-4EFF-AEB5-C81603D1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BC89-F474-4469-ABBC-E677A572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90A7-A43F-4C43-8F06-5C49AEC9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4A89-80D0-4030-8123-F9765773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488B-4A30-4FFE-840A-E26F9216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72BC-0BBD-4BF0-8AA9-2769E37C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5882-613F-4506-A7A7-01155596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B7AA-3D31-4A25-BE41-E8EDF0AF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4101-27D0-407F-9E60-D46B5A80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A56BB8-5858-46E0-8DE5-EFBAFD1D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E078C0-05F7-4DA8-B2FE-A06DB3B0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CA82F-A727-491B-A844-9056BAA8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1EC78E-3CAC-47EB-B65D-62688C32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8BFA1-0620-40F6-8546-107D27FE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17AA-07C7-4D5B-85DC-E668CE19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A47709-94AD-437B-9CAC-2714067D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B235E-1C18-4CB3-A89E-D119CC0B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4A8D7-438C-4C8D-91DB-0C9F05D2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7808A-D537-44C0-A2F0-9543F8A1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433D5-9A92-43FC-8AF4-A334446B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35366-7730-4663-BF81-31E53193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B8913B-8B37-4CA5-A4E5-D23AF98A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9104C-C8E3-47C8-A0B5-7E842C44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8E4AC-AB1D-43DB-B05E-07DC5AD9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F2623-62DD-4FEE-B952-F99D89F6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B5D7-7FF2-4E94-BD21-FE680DB4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0AA0E-9D04-4538-9A13-6C8617B6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8B935-A94E-43C8-B2C4-4D3FC35F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24DF8-B7F9-4BC4-8008-166098C6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757D8-9F33-46A2-9FEE-1FF687F8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FB5F5-55E6-433C-9F7E-D49BA7AE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E45A8-92CA-43DE-8E0A-D66EA304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25E2A-FB53-4ECD-85EB-1755B0C3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295C6-4343-44F9-8BD2-D3FD8AF5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87D57-91A8-4629-B140-0B9A4C25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AF02-4C40-47A1-B194-79EAC584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FFAD-F832-4255-8A30-83EC4D9C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CD6F-F326-4416-9499-0EBF9BB0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84B1-79E1-4F17-9098-5D6A2FA8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7CBD-87C9-4648-B173-6304F1C4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D069-7FBC-4693-B3B6-CEFD56003FAE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A173-A90F-470D-B2CB-18A2E7E270B7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1ADB-2349-4FCD-BF8E-23666D24AA8B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D1AC-45D8-4C08-9B98-230B03B23B8D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八章鞭毛虫      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Flagellates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一节 杜氏利什曼原虫    </a:t>
            </a:r>
            <a:r>
              <a:rPr b="0" i="1" lang="en-US" sz="4000" spc="-1" strike="noStrike">
                <a:solidFill>
                  <a:srgbClr val="ffffff"/>
                </a:solidFill>
                <a:latin typeface="Trebuchet MS"/>
              </a:rPr>
              <a:t>Leishman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3492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5280" y="1341360"/>
            <a:ext cx="7416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 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潜伏期长，</a:t>
            </a:r>
            <a:r>
              <a:rPr b="1" lang="en-US" sz="2800" spc="-1" strike="noStrike">
                <a:solidFill>
                  <a:srgbClr val="990000"/>
                </a:solidFill>
                <a:latin typeface="Perpetua"/>
              </a:rPr>
              <a:t>3~5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之后出现长期不规则</a:t>
            </a:r>
            <a:r>
              <a:rPr b="1" lang="zh-CN" sz="2800" spc="-1" strike="noStrike">
                <a:solidFill>
                  <a:srgbClr val="c00000"/>
                </a:solidFill>
                <a:latin typeface="Perpetua"/>
              </a:rPr>
              <a:t>发热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，进行性消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4000" y="270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脾大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（肝、骨髓、淋巴结均受累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34290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巨噬细胞和浆细胞大量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血流受阻及纤维组织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早期：脾充血，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晚期：脾纤维化，质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46836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26920" y="836640"/>
            <a:ext cx="6324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Perpetu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Perpetua"/>
              </a:rPr>
              <a:t>贫血（全血性贫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细胞、红细胞、血小板均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24000" y="2349360"/>
            <a:ext cx="88200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脾功能亢进  隔离和破坏血液细胞成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免疫溶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患者红细胞表面有虫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虫体代谢 产物中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红细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体产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这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形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-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合物，激活补体，破坏红细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骨髓造血功能受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4 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血清清蛋白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/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球蛋白（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A/G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）比例倒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1197000"/>
            <a:ext cx="7561080" cy="1053720"/>
            <a:chOff x="826920" y="1197000"/>
            <a:chExt cx="7561080" cy="1053720"/>
          </a:xfrm>
        </p:grpSpPr>
        <p:sp>
          <p:nvSpPr>
            <p:cNvPr id="286" name="Text Box 4"/>
            <p:cNvSpPr/>
            <p:nvPr/>
          </p:nvSpPr>
          <p:spPr>
            <a:xfrm>
              <a:off x="826920" y="15015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清蛋白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2808000" y="150120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808000" y="173016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341520" y="1197000"/>
              <a:ext cx="42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肝功能受损，合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341520" y="1730160"/>
              <a:ext cx="50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肾功能受损，从尿排出增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533520" y="2362320"/>
            <a:ext cx="8610480" cy="520560"/>
            <a:chOff x="533520" y="2362320"/>
            <a:chExt cx="8610480" cy="520560"/>
          </a:xfrm>
        </p:grpSpPr>
        <p:sp>
          <p:nvSpPr>
            <p:cNvPr id="292" name="Text Box 10"/>
            <p:cNvSpPr/>
            <p:nvPr/>
          </p:nvSpPr>
          <p:spPr>
            <a:xfrm>
              <a:off x="533520" y="2362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球蛋白增加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2590920" y="236232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浆细胞增生，产生大量非特异性球蛋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2"/>
          <p:cNvSpPr/>
          <p:nvPr/>
        </p:nvSpPr>
        <p:spPr>
          <a:xfrm>
            <a:off x="755640" y="3357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5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免疫复合物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肾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684360" y="4005360"/>
            <a:ext cx="7924680" cy="1599840"/>
            <a:chOff x="684360" y="4005360"/>
            <a:chExt cx="7924680" cy="1599840"/>
          </a:xfrm>
        </p:grpSpPr>
        <p:sp>
          <p:nvSpPr>
            <p:cNvPr id="296" name="Text Box 14"/>
            <p:cNvSpPr/>
            <p:nvPr/>
          </p:nvSpPr>
          <p:spPr>
            <a:xfrm>
              <a:off x="684360" y="415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Ag + 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046320" y="400536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免疫复合物沉积肾小球基底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5869080" y="451008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475320" y="42336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通透性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2197080" y="5373720"/>
              <a:ext cx="106668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3132000" y="508464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蛋白尿、血尿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Ⅲ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型超敏反应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13080" y="443700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001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Perpetua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Perpetua"/>
              </a:rPr>
              <a:t>我国的特殊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皮肤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面部和颈部皮肤结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治疗过程或治愈后发生（平原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淋巴结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浅表淋巴结肿大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黑热病病史（荒漠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68360" y="3860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7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预后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取决于早期特效治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84360" y="450864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未经治疗死亡率高达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7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~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特效药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葡萄糖酸锑钠、两性霉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脂类复合物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率较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后可获得牢固的免疫力（消除性免疫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皮肤利什曼"/>
          <p:cNvPicPr/>
          <p:nvPr/>
        </p:nvPicPr>
        <p:blipFill>
          <a:blip r:embed="rId6"/>
          <a:stretch/>
        </p:blipFill>
        <p:spPr>
          <a:xfrm>
            <a:off x="6516720" y="333360"/>
            <a:ext cx="2298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144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69850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病原学诊断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270792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刺检查  常用</a:t>
            </a:r>
            <a:r>
              <a:rPr b="1" lang="zh-CN" sz="2400" spc="-1" strike="noStrike">
                <a:solidFill>
                  <a:srgbClr val="aa103c"/>
                </a:solidFill>
                <a:latin typeface="宋体"/>
                <a:ea typeface="Times New Roman"/>
              </a:rPr>
              <a:t>骨髓穿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淋巴结穿刺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皮肤活检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外培养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NN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基）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前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动物接种法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9528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四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560" y="764640"/>
            <a:ext cx="7427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Georgia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检测血清抗体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L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测循环抗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什曼素实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39640" y="1052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五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流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58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3429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4800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68360" y="2349360"/>
            <a:ext cx="806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人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平原地区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人为传染源患者以青少年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家栖型中华白蛉和长管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犬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丘陵山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犬为传染源      患者以婴幼儿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野栖型中华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自然疫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荒漠地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野生保虫宿主为传染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吴氏白蛉和亚历山大白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幼儿为主，成人为淋巴结型黑热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11280" y="83664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4360" y="1989000"/>
            <a:ext cx="80611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治疗患者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葡萄糖酸锑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类复合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戊脘脒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二脒替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切除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捕杀病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4360" y="38606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灭蛉、防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3786120"/>
            <a:ext cx="66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蓝氏贾第鞭毛虫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685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eorgia"/>
              </a:rPr>
              <a:t>第二节   蓝氏贾第鞭毛虫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Giardia lambl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116000" y="4508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俗称贾第虫，寄生于人体小肠上段、胆囊等处，引起腹痛、腹泻和吸收不良等症状，导致贾第虫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一、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形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0920" y="141300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梨形，两侧对称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背面隆起，腹面凹陷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腹面前半部有吸器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吸器区两侧各有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细胞核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鞭毛均发自两核之间的基体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中体位于吸器之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4572000" y="2133720"/>
            <a:ext cx="4321080" cy="3220920"/>
            <a:chOff x="4572000" y="2133720"/>
            <a:chExt cx="4321080" cy="3220920"/>
          </a:xfrm>
        </p:grpSpPr>
        <p:pic>
          <p:nvPicPr>
            <p:cNvPr id="327" name="Picture 6" descr=""/>
            <p:cNvPicPr/>
            <p:nvPr/>
          </p:nvPicPr>
          <p:blipFill>
            <a:blip r:embed="rId1"/>
            <a:stretch/>
          </p:blipFill>
          <p:spPr>
            <a:xfrm>
              <a:off x="4677840" y="2133720"/>
              <a:ext cx="421524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6"/>
            <p:cNvSpPr/>
            <p:nvPr/>
          </p:nvSpPr>
          <p:spPr>
            <a:xfrm>
              <a:off x="6662520" y="3086280"/>
              <a:ext cx="56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前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7"/>
            <p:cNvSpPr/>
            <p:nvPr/>
          </p:nvSpPr>
          <p:spPr>
            <a:xfrm>
              <a:off x="6396120" y="4289400"/>
              <a:ext cx="56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404040"/>
                  </a:solidFill>
                  <a:latin typeface="Arial"/>
                </a:rPr>
                <a:t>后</a:t>
              </a: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8"/>
            <p:cNvSpPr/>
            <p:nvPr/>
          </p:nvSpPr>
          <p:spPr>
            <a:xfrm>
              <a:off x="4572000" y="3995640"/>
              <a:ext cx="56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腹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042920" y="2276640"/>
            <a:ext cx="7201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内脏利什曼病 ：杜氏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皮肤利什曼病 ：热带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墨西哥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硕大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黏膜皮肤利什曼病 ： 巴西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12536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利什曼病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蓝氏-滋养体-1"/>
          <p:cNvPicPr/>
          <p:nvPr/>
        </p:nvPicPr>
        <p:blipFill>
          <a:blip r:embed="rId1"/>
          <a:stretch/>
        </p:blipFill>
        <p:spPr>
          <a:xfrm>
            <a:off x="2050920" y="1268280"/>
            <a:ext cx="5473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蓝贾包中"/>
          <p:cNvPicPr/>
          <p:nvPr/>
        </p:nvPicPr>
        <p:blipFill>
          <a:blip r:embed="rId1"/>
          <a:stretch/>
        </p:blipFill>
        <p:spPr>
          <a:xfrm>
            <a:off x="179280" y="2190600"/>
            <a:ext cx="4095720" cy="466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5528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卵圆形，囊壁较厚，半透明；在囊壁与细胞质之间可见空隙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吉姆萨染色标本中显示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~4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个细胞核、中体及鞭毛轴丝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56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Giardia-life"/>
          <p:cNvPicPr/>
          <p:nvPr/>
        </p:nvPicPr>
        <p:blipFill>
          <a:blip r:embed="rId1"/>
          <a:stretch/>
        </p:blipFill>
        <p:spPr>
          <a:xfrm>
            <a:off x="2627280" y="404640"/>
            <a:ext cx="5786640" cy="6054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二、生活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rebuchet MS"/>
              </a:rPr>
              <a:t>生活史要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964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部位：滋养体寄生于人体小肠上段、胆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阶段：四核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阶段：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途径：经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虫宿主：家畜、鼠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三、 致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11280" y="1341360"/>
            <a:ext cx="813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为带囊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虫株毒力、共生环境、宿主免疫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吸器吸附，机械刺激，使肠黏膜细胞损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量虫体吸附，机械阻隔作用，引起肠功能紊乱，影响营养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吸收不良综合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侵入胆囊、胆管，引起胆管炎、胆囊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感染率高于成年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感染可影响儿童生长发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厌食、呕吐、发热、腹痛、腹泻、水样粪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粪便无脓血，含脂肪颗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四、诊断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2133360"/>
            <a:ext cx="74296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生理盐水直接涂片查滋养体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腹泻患者稀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碘液涂片查包囊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慢性患者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带囊者成形粪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十二指肠引流或胆汁检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五、流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162864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染源：慢性患者、带虫者与保虫宿主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播途径：饮用污染的水而感染是重要途 径，包囊对外界抵抗力亦较强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易感人群：老年、儿童、体弱者尤为易感，免疫缺损、艾滋病患者常常导致死亡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116000" y="537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近年来多见于旅游者中，故有“旅游者腹泻”之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六、防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42960" y="1916280"/>
            <a:ext cx="8043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治疗患者与带虫者：甲硝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学节肢动物机械性携带包囊，杀蝇和蜚蠊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饮食、饮水卫生和个人卫生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加强粪便管理，防止水源污染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1a3d"/>
                </a:solidFill>
                <a:latin typeface="Trebuchet MS"/>
              </a:rPr>
              <a:t>第三节  阴 道 毛 滴 虫</a:t>
            </a:r>
            <a:br>
              <a:rPr sz="5400"/>
            </a:br>
            <a:r>
              <a:rPr b="1" i="1" lang="en-US" sz="4800" spc="-1" strike="noStrike">
                <a:solidFill>
                  <a:srgbClr val="3e1a3d"/>
                </a:solidFill>
                <a:latin typeface="Trebuchet MS"/>
              </a:rPr>
              <a:t>Trichomonas vaginali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5235480"/>
            <a:ext cx="6778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79280" y="333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3043440" cy="342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228600" y="3638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5535360" y="4354920"/>
            <a:ext cx="1654560" cy="1666080"/>
            <a:chOff x="5535360" y="4354920"/>
            <a:chExt cx="1654560" cy="1666080"/>
          </a:xfrm>
        </p:grpSpPr>
        <p:sp>
          <p:nvSpPr>
            <p:cNvPr id="354" name="Arc 22"/>
            <p:cNvSpPr/>
            <p:nvPr/>
          </p:nvSpPr>
          <p:spPr>
            <a:xfrm rot="3072000">
              <a:off x="5752800" y="4616280"/>
              <a:ext cx="1218960" cy="11430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 flipV="1">
              <a:off x="5772960" y="536472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5"/>
          <p:cNvGrpSpPr/>
          <p:nvPr/>
        </p:nvGrpSpPr>
        <p:grpSpPr>
          <a:xfrm>
            <a:off x="1420560" y="4278240"/>
            <a:ext cx="1654560" cy="1666440"/>
            <a:chOff x="1420560" y="4278240"/>
            <a:chExt cx="1654560" cy="1666440"/>
          </a:xfrm>
        </p:grpSpPr>
        <p:sp>
          <p:nvSpPr>
            <p:cNvPr id="357" name="Arc 26"/>
            <p:cNvSpPr/>
            <p:nvPr/>
          </p:nvSpPr>
          <p:spPr>
            <a:xfrm rot="13872000">
              <a:off x="1638000" y="4539600"/>
              <a:ext cx="1219320" cy="1143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2742120" y="481644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1"/>
          <p:cNvGrpSpPr/>
          <p:nvPr/>
        </p:nvGrpSpPr>
        <p:grpSpPr>
          <a:xfrm>
            <a:off x="2057400" y="4883040"/>
            <a:ext cx="4267080" cy="534600"/>
            <a:chOff x="2057400" y="4883040"/>
            <a:chExt cx="4267080" cy="534600"/>
          </a:xfrm>
        </p:grpSpPr>
        <p:grpSp>
          <p:nvGrpSpPr>
            <p:cNvPr id="360" name="Group 34"/>
            <p:cNvGrpSpPr/>
            <p:nvPr/>
          </p:nvGrpSpPr>
          <p:grpSpPr>
            <a:xfrm>
              <a:off x="3657600" y="5035680"/>
              <a:ext cx="1371600" cy="304920"/>
              <a:chOff x="3657600" y="5035680"/>
              <a:chExt cx="1371600" cy="304920"/>
            </a:xfrm>
          </p:grpSpPr>
          <p:grpSp>
            <p:nvGrpSpPr>
              <p:cNvPr id="361" name="Group 30"/>
              <p:cNvGrpSpPr/>
              <p:nvPr/>
            </p:nvGrpSpPr>
            <p:grpSpPr>
              <a:xfrm>
                <a:off x="3657600" y="5035680"/>
                <a:ext cx="1371600" cy="76320"/>
                <a:chOff x="3657600" y="5035680"/>
                <a:chExt cx="1371600" cy="76320"/>
              </a:xfrm>
            </p:grpSpPr>
            <p:sp>
              <p:nvSpPr>
                <p:cNvPr id="362" name="Line 28"/>
                <p:cNvSpPr/>
                <p:nvPr/>
              </p:nvSpPr>
              <p:spPr>
                <a:xfrm>
                  <a:off x="3657600" y="511200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 flipH="1" flipV="1">
                  <a:off x="4876560" y="50356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3657600" y="5264280"/>
                <a:ext cx="1371600" cy="76320"/>
                <a:chOff x="3657600" y="5264280"/>
                <a:chExt cx="1371600" cy="76320"/>
              </a:xfrm>
            </p:grpSpPr>
            <p:sp>
              <p:nvSpPr>
                <p:cNvPr id="365" name="Line 32"/>
                <p:cNvSpPr/>
                <p:nvPr/>
              </p:nvSpPr>
              <p:spPr>
                <a:xfrm flipH="1">
                  <a:off x="3657600" y="526428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3"/>
                <p:cNvSpPr/>
                <p:nvPr/>
              </p:nvSpPr>
              <p:spPr>
                <a:xfrm>
                  <a:off x="3657960" y="52642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3"/>
            <p:cNvGrpSpPr/>
            <p:nvPr/>
          </p:nvGrpSpPr>
          <p:grpSpPr>
            <a:xfrm>
              <a:off x="2057400" y="4883040"/>
              <a:ext cx="4267080" cy="534600"/>
              <a:chOff x="2057400" y="4883040"/>
              <a:chExt cx="4267080" cy="534600"/>
            </a:xfrm>
          </p:grpSpPr>
          <p:sp>
            <p:nvSpPr>
              <p:cNvPr id="368" name="Text Box 37"/>
              <p:cNvSpPr/>
              <p:nvPr/>
            </p:nvSpPr>
            <p:spPr>
              <a:xfrm>
                <a:off x="2057400" y="489708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8"/>
              <p:cNvSpPr/>
              <p:nvPr/>
            </p:nvSpPr>
            <p:spPr>
              <a:xfrm>
                <a:off x="5029200" y="48830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"/>
              <p:cNvSpPr/>
              <p:nvPr/>
            </p:nvSpPr>
            <p:spPr>
              <a:xfrm>
                <a:off x="3809880" y="4893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Times New Roman"/>
                  </a:rPr>
                  <a:t>接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Box 2"/>
          <p:cNvSpPr/>
          <p:nvPr/>
        </p:nvSpPr>
        <p:spPr>
          <a:xfrm>
            <a:off x="1258920" y="47102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6224760" y="4697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50920" y="981000"/>
            <a:ext cx="873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滋养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虫体梨形或椭圆形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前鞭毛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后鞭毛，后鞭毛向后沿波动膜外缘内侧呈波浪式延伸，末端不游离。细胞核泡状，在虫体前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。鞭毛由基体发出，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成环状，位于细胞核上方。轴柱贯穿虫体并从末端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6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8186a"/>
                </a:solidFill>
                <a:latin typeface="Trebuchet MS"/>
              </a:rPr>
              <a:t>Leishmania donovani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8920" y="3933720"/>
            <a:ext cx="6348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氏利什曼原虫引起内脏利什曼病，也称黑热病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Kala-azar)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836640"/>
            <a:ext cx="75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19280" y="1125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Perpetua"/>
              </a:rPr>
              <a:t>杜氏利什曼原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380880" y="15098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女性及男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泌尿生殖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220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接触传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28600" y="2997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880" y="3816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的自净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15"/>
          <p:cNvGrpSpPr/>
          <p:nvPr/>
        </p:nvGrpSpPr>
        <p:grpSpPr>
          <a:xfrm>
            <a:off x="324000" y="4494240"/>
            <a:ext cx="7220160" cy="586080"/>
            <a:chOff x="324000" y="4494240"/>
            <a:chExt cx="7220160" cy="586080"/>
          </a:xfrm>
        </p:grpSpPr>
        <p:sp>
          <p:nvSpPr>
            <p:cNvPr id="379" name="TextBox 12"/>
            <p:cNvSpPr/>
            <p:nvPr/>
          </p:nvSpPr>
          <p:spPr>
            <a:xfrm>
              <a:off x="324000" y="4498920"/>
              <a:ext cx="192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杆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3"/>
            <p:cNvSpPr/>
            <p:nvPr/>
          </p:nvSpPr>
          <p:spPr>
            <a:xfrm>
              <a:off x="2863800" y="4494240"/>
              <a:ext cx="394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酵解糖原，产生乳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接箭头连接符 15"/>
            <p:cNvCxnSpPr/>
            <p:nvPr/>
          </p:nvCxnSpPr>
          <p:spPr>
            <a:xfrm>
              <a:off x="2151000" y="47858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直接箭头连接符 18"/>
            <p:cNvCxnSpPr/>
            <p:nvPr/>
          </p:nvCxnSpPr>
          <p:spPr>
            <a:xfrm>
              <a:off x="6804360" y="47811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3" name="组合 16"/>
          <p:cNvGrpSpPr/>
          <p:nvPr/>
        </p:nvGrpSpPr>
        <p:grpSpPr>
          <a:xfrm>
            <a:off x="393840" y="5130720"/>
            <a:ext cx="5513400" cy="581400"/>
            <a:chOff x="393840" y="5130720"/>
            <a:chExt cx="5513400" cy="581400"/>
          </a:xfrm>
        </p:grpSpPr>
        <p:cxnSp>
          <p:nvCxnSpPr>
            <p:cNvPr id="384" name="直接箭头连接符 17"/>
            <p:cNvCxnSpPr/>
            <p:nvPr/>
          </p:nvCxnSpPr>
          <p:spPr>
            <a:xfrm>
              <a:off x="2464920" y="5415840"/>
              <a:ext cx="740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TextBox 13"/>
            <p:cNvSpPr/>
            <p:nvPr/>
          </p:nvSpPr>
          <p:spPr>
            <a:xfrm>
              <a:off x="393840" y="5130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 3.8~4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"/>
            <p:cNvSpPr/>
            <p:nvPr/>
          </p:nvSpPr>
          <p:spPr>
            <a:xfrm>
              <a:off x="3192840" y="51307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抑制细菌繁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5"/>
          <p:cNvSpPr/>
          <p:nvPr/>
        </p:nvSpPr>
        <p:spPr>
          <a:xfrm>
            <a:off x="385920" y="776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滋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既是感染阶段又是致病阶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0"/>
          <p:cNvSpPr/>
          <p:nvPr/>
        </p:nvSpPr>
        <p:spPr>
          <a:xfrm>
            <a:off x="380880" y="4365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炎、尿道炎、前列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82680" y="50799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可吞噬精子、感染分泌物增多影响精子活力：导致男性不育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324000" y="1125360"/>
            <a:ext cx="8463240" cy="586080"/>
            <a:chOff x="324000" y="1125360"/>
            <a:chExt cx="8463240" cy="586080"/>
          </a:xfrm>
        </p:grpSpPr>
        <p:sp>
          <p:nvSpPr>
            <p:cNvPr id="391" name="TextBox 12"/>
            <p:cNvSpPr/>
            <p:nvPr/>
          </p:nvSpPr>
          <p:spPr>
            <a:xfrm>
              <a:off x="324000" y="1130040"/>
              <a:ext cx="51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阴道毛滴虫竞争性消耗糖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3"/>
            <p:cNvSpPr/>
            <p:nvPr/>
          </p:nvSpPr>
          <p:spPr>
            <a:xfrm>
              <a:off x="6183360" y="1125360"/>
              <a:ext cx="18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糖原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接箭头连接符 15"/>
            <p:cNvCxnSpPr/>
            <p:nvPr/>
          </p:nvCxnSpPr>
          <p:spPr>
            <a:xfrm>
              <a:off x="8047440" y="14097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直接箭头连接符 18"/>
            <p:cNvCxnSpPr/>
            <p:nvPr/>
          </p:nvCxnSpPr>
          <p:spPr>
            <a:xfrm>
              <a:off x="5441040" y="141120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5" name="组合 16"/>
          <p:cNvGrpSpPr/>
          <p:nvPr/>
        </p:nvGrpSpPr>
        <p:grpSpPr>
          <a:xfrm>
            <a:off x="345960" y="1795320"/>
            <a:ext cx="8440920" cy="581400"/>
            <a:chOff x="345960" y="1795320"/>
            <a:chExt cx="8440920" cy="581400"/>
          </a:xfrm>
        </p:grpSpPr>
        <p:sp>
          <p:nvSpPr>
            <p:cNvPr id="396" name="TextBox 13"/>
            <p:cNvSpPr/>
            <p:nvPr/>
          </p:nvSpPr>
          <p:spPr>
            <a:xfrm>
              <a:off x="345960" y="17953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生成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直接箭头连接符 18"/>
            <p:cNvCxnSpPr/>
            <p:nvPr/>
          </p:nvCxnSpPr>
          <p:spPr>
            <a:xfrm>
              <a:off x="3024000" y="208008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" name="TextBox 13"/>
            <p:cNvSpPr/>
            <p:nvPr/>
          </p:nvSpPr>
          <p:spPr>
            <a:xfrm>
              <a:off x="3786120" y="1795320"/>
              <a:ext cx="50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升（中性或偏碱性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7"/>
          <p:cNvGrpSpPr/>
          <p:nvPr/>
        </p:nvGrpSpPr>
        <p:grpSpPr>
          <a:xfrm>
            <a:off x="500040" y="2433600"/>
            <a:ext cx="7743960" cy="581400"/>
            <a:chOff x="500040" y="2433600"/>
            <a:chExt cx="7743960" cy="581400"/>
          </a:xfrm>
        </p:grpSpPr>
        <p:cxnSp>
          <p:nvCxnSpPr>
            <p:cNvPr id="400" name="直接箭头连接符 18"/>
            <p:cNvCxnSpPr/>
            <p:nvPr/>
          </p:nvCxnSpPr>
          <p:spPr>
            <a:xfrm>
              <a:off x="500040" y="27194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TextBox 13"/>
            <p:cNvSpPr/>
            <p:nvPr/>
          </p:nvSpPr>
          <p:spPr>
            <a:xfrm>
              <a:off x="1225800" y="2433600"/>
              <a:ext cx="701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利于滴虫大量繁殖且导致继发性细菌感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0"/>
          <p:cNvSpPr/>
          <p:nvPr/>
        </p:nvSpPr>
        <p:spPr>
          <a:xfrm>
            <a:off x="382680" y="4046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"/>
          <p:cNvGrpSpPr/>
          <p:nvPr/>
        </p:nvGrpSpPr>
        <p:grpSpPr>
          <a:xfrm>
            <a:off x="498600" y="3530520"/>
            <a:ext cx="7751520" cy="581400"/>
            <a:chOff x="498600" y="3530520"/>
            <a:chExt cx="7751520" cy="581400"/>
          </a:xfrm>
        </p:grpSpPr>
        <p:cxnSp>
          <p:nvCxnSpPr>
            <p:cNvPr id="404" name="直接箭头连接符 18"/>
            <p:cNvCxnSpPr/>
            <p:nvPr/>
          </p:nvCxnSpPr>
          <p:spPr>
            <a:xfrm>
              <a:off x="498600" y="38469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Box 13"/>
            <p:cNvSpPr/>
            <p:nvPr/>
          </p:nvSpPr>
          <p:spPr>
            <a:xfrm>
              <a:off x="1232280" y="3530520"/>
              <a:ext cx="701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</a:rPr>
                <a:t>炎症病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052640"/>
            <a:ext cx="55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理盐水直接涂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395280" y="1700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吉姆萨或瑞氏染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227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汤培养基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50920" y="296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0" descr="滴虫涂片.jpg"/>
          <p:cNvPicPr/>
          <p:nvPr/>
        </p:nvPicPr>
        <p:blipFill>
          <a:blip r:embed="rId1"/>
          <a:srcRect l="4571" t="6064" r="4058" b="3032"/>
          <a:stretch/>
        </p:blipFill>
        <p:spPr>
          <a:xfrm>
            <a:off x="5143680" y="7858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468360" y="3686040"/>
            <a:ext cx="8136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世界范围内最常见的性传播感染疾病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者感染阴道毛滴虫的机会是一般人群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国的感染率也很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7"/>
          <p:cNvSpPr/>
          <p:nvPr/>
        </p:nvSpPr>
        <p:spPr>
          <a:xfrm>
            <a:off x="324000" y="549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治疗患者及带虫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甲硝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26880" y="1189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切断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42880" y="1819440"/>
            <a:ext cx="7850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接触：以性传播为主的一种传染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42880" y="254016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接接触：注意个人卫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68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第五节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致病性自生生活阿米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4370040"/>
            <a:ext cx="67788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68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福氏耐格里阿米巴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rebuchet MS"/>
              </a:rPr>
              <a:t>Naegleria fowler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481040"/>
            <a:ext cx="3409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滋养体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0760" y="3214800"/>
            <a:ext cx="7751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；囊壁双层，厚而光滑；囊内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223920" y="31896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4456"/>
                </a:solidFill>
                <a:latin typeface="Times New Roman"/>
              </a:rPr>
              <a:t>一、形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左大括号 26"/>
          <p:cNvSpPr/>
          <p:nvPr/>
        </p:nvSpPr>
        <p:spPr>
          <a:xfrm>
            <a:off x="2143080" y="1284120"/>
            <a:ext cx="285840" cy="1071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71720"/>
              <a:gd name="textAreaBottom" fmla="*/ 1064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500200" y="476280"/>
            <a:ext cx="64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阿米巴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伪足宽大叶状；细胞核泡状，核仁大而致密位于中央；细胞质呈颗粒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耐格里阿米巴滋养体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628640"/>
            <a:ext cx="3730320" cy="2793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福氏鞭毛型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43680" y="2924280"/>
            <a:ext cx="3676320" cy="2665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耐格里阿米巴包囊"/>
          <p:cNvPicPr/>
          <p:nvPr/>
        </p:nvPicPr>
        <p:blipFill>
          <a:blip r:embed="rId3"/>
          <a:stretch/>
        </p:blipFill>
        <p:spPr>
          <a:xfrm>
            <a:off x="2019240" y="4000680"/>
            <a:ext cx="3338640" cy="2643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8"/>
          <p:cNvSpPr/>
          <p:nvPr/>
        </p:nvSpPr>
        <p:spPr>
          <a:xfrm>
            <a:off x="2489040" y="20588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鞭毛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梨形或卵形，前段长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或多根鞭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214200" y="142920"/>
            <a:ext cx="85726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史较简单，有滋养体和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5"/>
          <p:cNvGrpSpPr/>
          <p:nvPr/>
        </p:nvGrpSpPr>
        <p:grpSpPr>
          <a:xfrm>
            <a:off x="1619280" y="1892160"/>
            <a:ext cx="5948280" cy="4586400"/>
            <a:chOff x="1619280" y="1892160"/>
            <a:chExt cx="5948280" cy="4586400"/>
          </a:xfrm>
        </p:grpSpPr>
        <p:pic>
          <p:nvPicPr>
            <p:cNvPr id="431" name="Picture 3" descr=""/>
            <p:cNvPicPr/>
            <p:nvPr/>
          </p:nvPicPr>
          <p:blipFill>
            <a:blip r:embed="rId1"/>
            <a:stretch/>
          </p:blipFill>
          <p:spPr>
            <a:xfrm>
              <a:off x="1619280" y="1892160"/>
              <a:ext cx="594828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32"/>
            <p:cNvSpPr/>
            <p:nvPr/>
          </p:nvSpPr>
          <p:spPr>
            <a:xfrm>
              <a:off x="5977080" y="2653920"/>
              <a:ext cx="1214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在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3"/>
            <p:cNvSpPr/>
            <p:nvPr/>
          </p:nvSpPr>
          <p:spPr>
            <a:xfrm>
              <a:off x="5691240" y="6046920"/>
              <a:ext cx="164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鞭毛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4"/>
            <p:cNvSpPr/>
            <p:nvPr/>
          </p:nvSpPr>
          <p:spPr>
            <a:xfrm>
              <a:off x="1976400" y="246348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阿米巴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5"/>
            <p:cNvSpPr/>
            <p:nvPr/>
          </p:nvSpPr>
          <p:spPr>
            <a:xfrm>
              <a:off x="1785960" y="6070680"/>
              <a:ext cx="85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包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6"/>
            <p:cNvSpPr/>
            <p:nvPr/>
          </p:nvSpPr>
          <p:spPr>
            <a:xfrm>
              <a:off x="1654200" y="3892320"/>
              <a:ext cx="1071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7"/>
            <p:cNvSpPr/>
            <p:nvPr/>
          </p:nvSpPr>
          <p:spPr>
            <a:xfrm>
              <a:off x="3976560" y="4249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直接箭头连接符 39"/>
            <p:cNvCxnSpPr/>
            <p:nvPr/>
          </p:nvCxnSpPr>
          <p:spPr>
            <a:xfrm flipV="1">
              <a:off x="2761920" y="5749200"/>
              <a:ext cx="85788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39" name="直接箭头连接符 41"/>
            <p:cNvCxnSpPr/>
            <p:nvPr/>
          </p:nvCxnSpPr>
          <p:spPr>
            <a:xfrm>
              <a:off x="3904200" y="4178160"/>
              <a:ext cx="214920" cy="714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40" name="TextBox 42"/>
            <p:cNvSpPr/>
            <p:nvPr/>
          </p:nvSpPr>
          <p:spPr>
            <a:xfrm>
              <a:off x="2678040" y="58928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4"/>
            <p:cNvSpPr/>
            <p:nvPr/>
          </p:nvSpPr>
          <p:spPr>
            <a:xfrm>
              <a:off x="3679920" y="570240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Times New Roman"/>
                </a:rPr>
                <a:t>阿米巴型滋养体损伤脑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0"/>
          <p:cNvSpPr/>
          <p:nvPr/>
        </p:nvSpPr>
        <p:spPr>
          <a:xfrm>
            <a:off x="25092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5"/>
          <p:cNvSpPr/>
          <p:nvPr/>
        </p:nvSpPr>
        <p:spPr>
          <a:xfrm>
            <a:off x="324000" y="83664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脑部病变多位于脑皮质表面和基底部，嗅叶、颞叶和小脑也可受到损害，以嗅叶受累严重，导致原发性阿米巴脑膜脑炎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PAM 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症状：早期突发头痛、发热、恶心、呕吐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后迅速转入瘫痪、昏迷、谵妄，患者常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内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病者多为儿童和青壮年，起病急、病程短、死亡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0"/>
          <p:cNvSpPr/>
          <p:nvPr/>
        </p:nvSpPr>
        <p:spPr>
          <a:xfrm>
            <a:off x="179280" y="47628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395280" y="98100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检查：脑脊液查滋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脑脊液接种、培养，镜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病史：是否曾游泳、嬉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214200" y="3110040"/>
            <a:ext cx="771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28760" y="3854520"/>
            <a:ext cx="8319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夏季以青壮年发病为主，多在游泳、潜水时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：无理想药物，两性霉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缓解症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预防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避免接触污染水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、洗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53964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1700280"/>
            <a:ext cx="436716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（利杜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椭圆形或圆形，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2.8~4.4µ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细胞膜纤细，细胞质淡蓝色；细胞核位于虫体一侧；动基体位于虫体中部；核和动基体均呈红色或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449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4475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11"/>
          <p:cNvGrpSpPr/>
          <p:nvPr/>
        </p:nvGrpSpPr>
        <p:grpSpPr>
          <a:xfrm>
            <a:off x="2484360" y="5589720"/>
            <a:ext cx="1227240" cy="368280"/>
            <a:chOff x="2484360" y="5589720"/>
            <a:chExt cx="1227240" cy="368280"/>
          </a:xfrm>
        </p:grpSpPr>
        <p:sp>
          <p:nvSpPr>
            <p:cNvPr id="234" name="直接连接符 7"/>
            <p:cNvSpPr/>
            <p:nvPr/>
          </p:nvSpPr>
          <p:spPr>
            <a:xfrm>
              <a:off x="2484360" y="570564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8"/>
            <p:cNvSpPr/>
            <p:nvPr/>
          </p:nvSpPr>
          <p:spPr>
            <a:xfrm>
              <a:off x="3135960" y="55897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16"/>
          <p:cNvSpPr/>
          <p:nvPr/>
        </p:nvSpPr>
        <p:spPr>
          <a:xfrm>
            <a:off x="2411280" y="5373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313200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435640" y="49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巨噬细胞内的无鞭毛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324240" cy="249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981000"/>
            <a:ext cx="5708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梭形或长梭形，前端有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根伸岀体外的鞭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胞质淡蓝色；核位于虫体中部；动基体横向于虫体前部，近基体；细胞核、动基体和鞭毛均呈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924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9480" y="160020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11280" y="7650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 生活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495680" y="2590920"/>
            <a:ext cx="0" cy="35049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05120" y="266688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白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72200" y="251460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7652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86400" y="33526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（巨噬细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3733920" y="4343400"/>
            <a:ext cx="1752120" cy="152280"/>
            <a:chOff x="3733920" y="4343400"/>
            <a:chExt cx="1752120" cy="152280"/>
          </a:xfrm>
        </p:grpSpPr>
        <p:sp>
          <p:nvSpPr>
            <p:cNvPr id="250" name="Line 10"/>
            <p:cNvSpPr/>
            <p:nvPr/>
          </p:nvSpPr>
          <p:spPr>
            <a:xfrm>
              <a:off x="3733920" y="449568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5235840" y="434340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3734280" y="4647960"/>
            <a:ext cx="1752120" cy="152280"/>
            <a:chOff x="3734280" y="4647960"/>
            <a:chExt cx="1752120" cy="152280"/>
          </a:xfrm>
        </p:grpSpPr>
        <p:sp>
          <p:nvSpPr>
            <p:cNvPr id="253" name="Line 13"/>
            <p:cNvSpPr/>
            <p:nvPr/>
          </p:nvSpPr>
          <p:spPr>
            <a:xfrm flipH="1">
              <a:off x="3734280" y="464796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3734280" y="464796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58672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8288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5257800" y="3733920"/>
            <a:ext cx="2514600" cy="1452600"/>
            <a:chOff x="5257800" y="3733920"/>
            <a:chExt cx="2514600" cy="1452600"/>
          </a:xfrm>
        </p:grpSpPr>
        <p:sp>
          <p:nvSpPr>
            <p:cNvPr id="258" name="Arc 18"/>
            <p:cNvSpPr/>
            <p:nvPr/>
          </p:nvSpPr>
          <p:spPr>
            <a:xfrm>
              <a:off x="5257800" y="373536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V="1">
              <a:off x="5562360" y="373392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1219320" y="3809880"/>
            <a:ext cx="2514600" cy="1452600"/>
            <a:chOff x="1219320" y="3809880"/>
            <a:chExt cx="2514600" cy="1452600"/>
          </a:xfrm>
        </p:grpSpPr>
        <p:sp>
          <p:nvSpPr>
            <p:cNvPr id="261" name="Arc 21"/>
            <p:cNvSpPr/>
            <p:nvPr/>
          </p:nvSpPr>
          <p:spPr>
            <a:xfrm>
              <a:off x="1219320" y="381132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V="1">
              <a:off x="1523880" y="380988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3"/>
          <p:cNvSpPr/>
          <p:nvPr/>
        </p:nvSpPr>
        <p:spPr>
          <a:xfrm>
            <a:off x="3733920" y="38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蛉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876920" y="685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47712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029200" y="2362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:\教学\大专教材\ch\10-1.tif"/>
          <p:cNvPicPr/>
          <p:nvPr/>
        </p:nvPicPr>
        <p:blipFill>
          <a:blip r:embed="rId1"/>
          <a:stretch/>
        </p:blipFill>
        <p:spPr>
          <a:xfrm>
            <a:off x="684360" y="614520"/>
            <a:ext cx="7827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332000" y="2276640"/>
            <a:ext cx="705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前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致病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无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途径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白蛉叮咬  </a:t>
            </a:r>
            <a:r>
              <a:rPr b="1" lang="zh-CN" sz="2000" spc="-1" strike="noStrike">
                <a:solidFill>
                  <a:srgbClr val="000000"/>
                </a:solidFill>
                <a:latin typeface="Perpetua"/>
              </a:rPr>
              <a:t>也可经输血感染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寄生部位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单核巨噬细胞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981000"/>
            <a:ext cx="23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8086"/>
                </a:solidFill>
                <a:latin typeface="Perpetua"/>
              </a:rPr>
              <a:t>要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549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三</a:t>
            </a:r>
            <a:r>
              <a:rPr b="1" lang="zh-CN" sz="2800" spc="-1" strike="noStrike">
                <a:solidFill>
                  <a:srgbClr val="67afbd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致病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6920" y="15573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916360" y="2205000"/>
            <a:ext cx="3047760" cy="3431160"/>
            <a:chOff x="2916360" y="2205000"/>
            <a:chExt cx="3047760" cy="3431160"/>
          </a:xfrm>
        </p:grpSpPr>
        <p:sp>
          <p:nvSpPr>
            <p:cNvPr id="273" name="Text Box 5"/>
            <p:cNvSpPr/>
            <p:nvPr/>
          </p:nvSpPr>
          <p:spPr>
            <a:xfrm>
              <a:off x="3068640" y="2205000"/>
              <a:ext cx="258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无鞭毛体寄生于单核巨噬细胞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678120" y="3500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引起破坏、增生病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51764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主要病变器官：脾、肝、骨髓、淋巴结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4363920" y="3043080"/>
              <a:ext cx="0" cy="4568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363920" y="4262040"/>
              <a:ext cx="0" cy="9140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0:42:54Z</dcterms:created>
  <dc:creator>鱼艳荣</dc:creator>
  <dc:description/>
  <dc:language>en-US</dc:language>
  <cp:lastModifiedBy>hzg</cp:lastModifiedBy>
  <dcterms:modified xsi:type="dcterms:W3CDTF">2015-10-05T12:13:51Z</dcterms:modified>
  <cp:revision>75</cp:revision>
  <dc:subject/>
  <dc:title>Leishmania donovani</dc:title>
</cp:coreProperties>
</file>